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2819520" y="5708520"/>
            <a:ext cx="5562360" cy="1066680"/>
            <a:chOff x="2819520" y="5708520"/>
            <a:chExt cx="5562360" cy="1066680"/>
          </a:xfrm>
        </p:grpSpPr>
        <p:pic>
          <p:nvPicPr>
            <p:cNvPr id="39" name="logoDAEEcorRGB5x5,4cm150dpiversao8%20jpeg" descr=""/>
            <p:cNvPicPr/>
            <p:nvPr/>
          </p:nvPicPr>
          <p:blipFill>
            <a:blip r:embed="rId1"/>
            <a:stretch/>
          </p:blipFill>
          <p:spPr>
            <a:xfrm>
              <a:off x="2819520" y="5708520"/>
              <a:ext cx="86040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" name=""/>
            <p:cNvSpPr/>
            <p:nvPr/>
          </p:nvSpPr>
          <p:spPr>
            <a:xfrm>
              <a:off x="3733920" y="5924520"/>
              <a:ext cx="464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partamento de Águas e Energia Elétric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" name=""/>
          <p:cNvSpPr/>
          <p:nvPr/>
        </p:nvSpPr>
        <p:spPr>
          <a:xfrm>
            <a:off x="3733920" y="501336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chitecture"/>
              </a:rPr>
              <a:t>Gerôncio  Ro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9920" y="152280"/>
            <a:ext cx="70102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ELHO NACIONAL DE RECURSOS HÍDRICOS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N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união da Câmara Técnica de Integ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 Procedimentos, Ações de Outorga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ções Reguladoras - CTPO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rasília, 27/05/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52360" y="3429000"/>
            <a:ext cx="6858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ÁGUAS SUBTERRÂNE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TRIZES DE CONTROLE EM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5410080"/>
            <a:ext cx="49528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geronciorocha@daee.sp.gov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tel. (011)  3293-84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219320" y="533520"/>
            <a:ext cx="6705360" cy="6040800"/>
            <a:chOff x="1219320" y="533520"/>
            <a:chExt cx="6705360" cy="6040800"/>
          </a:xfrm>
        </p:grpSpPr>
        <p:sp>
          <p:nvSpPr>
            <p:cNvPr id="150" name=""/>
            <p:cNvSpPr/>
            <p:nvPr/>
          </p:nvSpPr>
          <p:spPr>
            <a:xfrm>
              <a:off x="5167440" y="2222640"/>
              <a:ext cx="2757240" cy="43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cc00"/>
                  </a:solidFill>
                  <a:latin typeface="Arial"/>
                </a:rPr>
                <a:t>APR- Áreas prováveis de restrição e controle: são aquelas onde foram observados indícios ou constatação de super-explotação e interferência entre poços ou constam como área suspeita da presença de contaminantes no solo e nas águas subterrân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2222640"/>
              <a:ext cx="3822480" cy="43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Terá como base, dados e estudos hidrogeológicos, em especial os de rebaixamento dos níveis d’água, interferência entre poços, mapa potenciométrico, indícios de contaminação e estudos hidrogeoquímicos de anomalias naturais da qualidade da água subterrânea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aso haja indícios de super explotação ou contaminação, a APO será classificada como área provável de restrição e controle (APR) tendo como limites bacias hidrogeológ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34960" y="533520"/>
              <a:ext cx="3256200" cy="7794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06600" y="550800"/>
              <a:ext cx="3065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tapa de identific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61400" y="868320"/>
              <a:ext cx="921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 AR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34960" y="1468440"/>
              <a:ext cx="3256200" cy="312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04560" y="1487520"/>
              <a:ext cx="2553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vestigação prelimin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07280" y="1468440"/>
              <a:ext cx="799920" cy="312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59920" y="1440000"/>
              <a:ext cx="50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P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91160" y="1623960"/>
              <a:ext cx="1541520" cy="1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22960" y="1573200"/>
              <a:ext cx="95400" cy="1033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0" y="0"/>
                  </a:moveTo>
                  <a:lnTo>
                    <a:pt x="74" y="38"/>
                  </a:lnTo>
                  <a:lnTo>
                    <a:pt x="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02000" y="1371600"/>
              <a:ext cx="1289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Classificação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91160" y="1198440"/>
              <a:ext cx="442800" cy="333360"/>
            </a:xfrm>
            <a:custGeom>
              <a:avLst/>
              <a:gdLst/>
              <a:ahLst/>
              <a:rect l="l" t="t" r="r" b="b"/>
              <a:pathLst>
                <a:path w="339" h="242">
                  <a:moveTo>
                    <a:pt x="0" y="242"/>
                  </a:moveTo>
                  <a:lnTo>
                    <a:pt x="47" y="240"/>
                  </a:lnTo>
                  <a:lnTo>
                    <a:pt x="93" y="232"/>
                  </a:lnTo>
                  <a:lnTo>
                    <a:pt x="136" y="219"/>
                  </a:lnTo>
                  <a:lnTo>
                    <a:pt x="178" y="203"/>
                  </a:lnTo>
                  <a:lnTo>
                    <a:pt x="215" y="182"/>
                  </a:lnTo>
                  <a:lnTo>
                    <a:pt x="248" y="158"/>
                  </a:lnTo>
                  <a:lnTo>
                    <a:pt x="277" y="131"/>
                  </a:lnTo>
                  <a:lnTo>
                    <a:pt x="303" y="101"/>
                  </a:lnTo>
                  <a:lnTo>
                    <a:pt x="320" y="69"/>
                  </a:lnTo>
                  <a:lnTo>
                    <a:pt x="333" y="35"/>
                  </a:lnTo>
                  <a:lnTo>
                    <a:pt x="339" y="0"/>
                  </a:ln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86440" y="1157400"/>
              <a:ext cx="95040" cy="5220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36"/>
                  </a:moveTo>
                  <a:lnTo>
                    <a:pt x="36" y="0"/>
                  </a:lnTo>
                  <a:lnTo>
                    <a:pt x="73" y="3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ff00"/>
            </a:solidFill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19120" y="996840"/>
              <a:ext cx="78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Arial"/>
                </a:rPr>
                <a:t>Exclus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45120" y="1751040"/>
              <a:ext cx="2162160" cy="301680"/>
            </a:xfrm>
            <a:custGeom>
              <a:avLst/>
              <a:gdLst/>
              <a:ahLst/>
              <a:rect l="l" t="t" r="r" b="b"/>
              <a:pathLst>
                <a:path w="1656" h="219">
                  <a:moveTo>
                    <a:pt x="1656" y="0"/>
                  </a:moveTo>
                  <a:lnTo>
                    <a:pt x="650" y="0"/>
                  </a:lnTo>
                  <a:lnTo>
                    <a:pt x="650" y="102"/>
                  </a:lnTo>
                  <a:lnTo>
                    <a:pt x="0" y="102"/>
                  </a:lnTo>
                  <a:lnTo>
                    <a:pt x="0" y="219"/>
                  </a:lnTo>
                </a:path>
              </a:pathLst>
            </a:custGeom>
            <a:noFill/>
            <a:ln w="2844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99040" y="2041560"/>
              <a:ext cx="96840" cy="50760"/>
            </a:xfrm>
            <a:custGeom>
              <a:avLst/>
              <a:gdLst/>
              <a:ahLst/>
              <a:rect l="l" t="t" r="r" b="b"/>
              <a:pathLst>
                <a:path w="75" h="37">
                  <a:moveTo>
                    <a:pt x="75" y="0"/>
                  </a:moveTo>
                  <a:lnTo>
                    <a:pt x="36" y="37"/>
                  </a:lnTo>
                  <a:lnTo>
                    <a:pt x="0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8000"/>
            </a:solidFill>
            <a:ln w="2844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85520" y="1873080"/>
              <a:ext cx="1113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8000"/>
                  </a:solidFill>
                  <a:latin typeface="Arial"/>
                </a:rPr>
                <a:t>Priorização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86440" y="689040"/>
              <a:ext cx="1368360" cy="39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42320" y="706320"/>
              <a:ext cx="1032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AS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219320" y="2209680"/>
            <a:ext cx="3809880" cy="4343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2209680"/>
            <a:ext cx="2743200" cy="4343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219320" y="276120"/>
            <a:ext cx="6858000" cy="6201000"/>
            <a:chOff x="1219320" y="276120"/>
            <a:chExt cx="6858000" cy="6201000"/>
          </a:xfrm>
        </p:grpSpPr>
        <p:sp>
          <p:nvSpPr>
            <p:cNvPr id="173" name=""/>
            <p:cNvSpPr/>
            <p:nvPr/>
          </p:nvSpPr>
          <p:spPr>
            <a:xfrm>
              <a:off x="1219320" y="1944720"/>
              <a:ext cx="3590640" cy="43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vestigação confirmatória com relação à quantidade será expressa pela relação entre os fatores consumo (C) e disponibilidade (Q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investigação confirmatória com relação à qualidade das águas subterrâneas terá como base os padrões de potabilidade da Portaria 1469/00 do Ministério da Saúde e suas alterações e os dados disponíveis no cadastro de áreas contaminadas do órgão ambiental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91040" y="1944720"/>
              <a:ext cx="308628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Times New Roman"/>
                </a:rPr>
                <a:t>ARC- Áreas de restrição e controle: são aquelas onde há comprovadamente super-explotação ou contaminação da água subterrânea ou estão próximas de atividades com potencial de contaminação; ou então enquadram-se em áreas legais de proteção de mananciais ou constituem zonas de proteção de captação para o abastecimento público</a:t>
              </a:r>
              <a:r>
                <a:rPr b="1" lang="pt-BR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63560" y="276120"/>
              <a:ext cx="3111480" cy="7700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33400" y="295200"/>
              <a:ext cx="299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tapa de identific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40680" y="608040"/>
              <a:ext cx="921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 AR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63560" y="1200240"/>
              <a:ext cx="3111480" cy="30636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6520" y="1216080"/>
              <a:ext cx="324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Investigação confirmató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72240" y="1192320"/>
              <a:ext cx="763560" cy="30636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80960" y="1163520"/>
              <a:ext cx="55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75040" y="1352520"/>
              <a:ext cx="1778040" cy="1440"/>
            </a:xfrm>
            <a:prstGeom prst="line">
              <a:avLst/>
            </a:prstGeom>
            <a:ln w="2232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94400" y="1293840"/>
              <a:ext cx="92160" cy="101520"/>
            </a:xfrm>
            <a:custGeom>
              <a:avLst/>
              <a:gdLst/>
              <a:ahLst/>
              <a:rect l="l" t="t" r="r" b="b"/>
              <a:pathLst>
                <a:path w="118" h="128">
                  <a:moveTo>
                    <a:pt x="0" y="0"/>
                  </a:moveTo>
                  <a:lnTo>
                    <a:pt x="118" y="64"/>
                  </a:lnTo>
                  <a:lnTo>
                    <a:pt x="0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00"/>
            </a:solidFill>
            <a:ln w="2232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30640" y="1087560"/>
              <a:ext cx="146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8000"/>
                  </a:solidFill>
                  <a:latin typeface="Arial"/>
                </a:rPr>
                <a:t>Classificação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75040" y="933480"/>
              <a:ext cx="422280" cy="326880"/>
            </a:xfrm>
            <a:custGeom>
              <a:avLst/>
              <a:gdLst/>
              <a:ahLst/>
              <a:rect l="l" t="t" r="r" b="b"/>
              <a:pathLst>
                <a:path w="532" h="413">
                  <a:moveTo>
                    <a:pt x="0" y="413"/>
                  </a:moveTo>
                  <a:lnTo>
                    <a:pt x="54" y="412"/>
                  </a:lnTo>
                  <a:lnTo>
                    <a:pt x="107" y="404"/>
                  </a:lnTo>
                  <a:lnTo>
                    <a:pt x="158" y="392"/>
                  </a:lnTo>
                  <a:lnTo>
                    <a:pt x="208" y="377"/>
                  </a:lnTo>
                  <a:lnTo>
                    <a:pt x="256" y="358"/>
                  </a:lnTo>
                  <a:lnTo>
                    <a:pt x="301" y="335"/>
                  </a:lnTo>
                  <a:lnTo>
                    <a:pt x="345" y="307"/>
                  </a:lnTo>
                  <a:lnTo>
                    <a:pt x="383" y="277"/>
                  </a:lnTo>
                  <a:lnTo>
                    <a:pt x="419" y="244"/>
                  </a:lnTo>
                  <a:lnTo>
                    <a:pt x="449" y="208"/>
                  </a:lnTo>
                  <a:lnTo>
                    <a:pt x="476" y="169"/>
                  </a:lnTo>
                  <a:lnTo>
                    <a:pt x="497" y="130"/>
                  </a:lnTo>
                  <a:lnTo>
                    <a:pt x="514" y="87"/>
                  </a:lnTo>
                  <a:lnTo>
                    <a:pt x="526" y="44"/>
                  </a:lnTo>
                  <a:lnTo>
                    <a:pt x="532" y="0"/>
                  </a:lnTo>
                </a:path>
              </a:pathLst>
            </a:custGeom>
            <a:noFill/>
            <a:ln w="22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51600" y="892080"/>
              <a:ext cx="91800" cy="52560"/>
            </a:xfrm>
            <a:custGeom>
              <a:avLst/>
              <a:gdLst/>
              <a:ahLst/>
              <a:rect l="l" t="t" r="r" b="b"/>
              <a:pathLst>
                <a:path w="118" h="66">
                  <a:moveTo>
                    <a:pt x="0" y="63"/>
                  </a:moveTo>
                  <a:lnTo>
                    <a:pt x="61" y="0"/>
                  </a:lnTo>
                  <a:lnTo>
                    <a:pt x="118" y="66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00"/>
            </a:solidFill>
            <a:ln w="22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89680" y="735120"/>
              <a:ext cx="890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Exclus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49880" y="1476360"/>
              <a:ext cx="2065320" cy="297000"/>
            </a:xfrm>
            <a:custGeom>
              <a:avLst/>
              <a:gdLst/>
              <a:ahLst/>
              <a:rect l="l" t="t" r="r" b="b"/>
              <a:pathLst>
                <a:path w="2602" h="374">
                  <a:moveTo>
                    <a:pt x="2602" y="0"/>
                  </a:moveTo>
                  <a:lnTo>
                    <a:pt x="1021" y="0"/>
                  </a:lnTo>
                  <a:lnTo>
                    <a:pt x="1021" y="175"/>
                  </a:lnTo>
                  <a:lnTo>
                    <a:pt x="0" y="175"/>
                  </a:lnTo>
                  <a:lnTo>
                    <a:pt x="0" y="374"/>
                  </a:lnTo>
                </a:path>
              </a:pathLst>
            </a:custGeom>
            <a:noFill/>
            <a:ln w="2232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03800" y="1763640"/>
              <a:ext cx="93600" cy="50760"/>
            </a:xfrm>
            <a:custGeom>
              <a:avLst/>
              <a:gdLst/>
              <a:ahLst/>
              <a:rect l="l" t="t" r="r" b="b"/>
              <a:pathLst>
                <a:path w="118" h="64">
                  <a:moveTo>
                    <a:pt x="118" y="0"/>
                  </a:moveTo>
                  <a:lnTo>
                    <a:pt x="59" y="64"/>
                  </a:lnTo>
                  <a:lnTo>
                    <a:pt x="0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8000"/>
            </a:solidFill>
            <a:ln w="2232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42400" y="1595520"/>
              <a:ext cx="1263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8000"/>
                  </a:solidFill>
                  <a:latin typeface="Arial"/>
                </a:rPr>
                <a:t>Priorização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12000" y="430200"/>
              <a:ext cx="1307880" cy="385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58160" y="447840"/>
              <a:ext cx="1032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AS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19320" y="1905120"/>
              <a:ext cx="3581280" cy="457200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52880" y="1905120"/>
              <a:ext cx="3124440" cy="45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22860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zação da água subterrânea para abastecimento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1468440"/>
            <a:ext cx="678168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plotação a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35000" y="1295280"/>
            <a:ext cx="7086600" cy="51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"/>
              <a:tabLst>
                <a:tab algn="l" pos="285840"/>
                <a:tab algn="l" pos="209556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timativa de 30.000 poços ativos (RMS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"/>
              <a:tabLst>
                <a:tab algn="l" pos="285840"/>
                <a:tab algn="l" pos="209556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erca de 7.000 poços tubulares ativos (RMS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"/>
              <a:tabLst>
                <a:tab algn="l" pos="285840"/>
                <a:tab algn="l" pos="209556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olume total estimado : 8m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s,  equivalente a 12%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toda água de abastecimento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"/>
              <a:tabLst>
                <a:tab algn="l" pos="285840"/>
                <a:tab algn="l" pos="209556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zenas de milhares de poços rasos, escavados (us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méstico; proximidade de fossas séptic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"/>
              <a:tabLst>
                <a:tab algn="l" pos="285840"/>
                <a:tab algn="l" pos="209556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dastro de poços no município de São Paulo (DAEE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go/200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285840"/>
                <a:tab algn="l" pos="209556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cenças de perfuração   -    4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285840"/>
                <a:tab algn="l" pos="209556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cenças de operação      -      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285840"/>
                <a:tab algn="l" pos="209556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utorgas                          -     5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285840"/>
                <a:tab algn="l" pos="209556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otal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.0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54080" y="949320"/>
            <a:ext cx="7010280" cy="49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"/>
              <a:tabLst>
                <a:tab algn="l" pos="1809720"/>
                <a:tab algn="l" pos="276228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Quantida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09720"/>
                <a:tab algn="l" pos="276228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erferências entre poç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09720"/>
                <a:tab algn="l" pos="276228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baixamentos do nível d´água; maiore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ustos de bombe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"/>
              <a:tabLst>
                <a:tab algn="l" pos="1809720"/>
                <a:tab algn="l" pos="276228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iscos de poluiçã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09720"/>
                <a:tab algn="l" pos="276228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ços rasos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alta de proteção sanitár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09720"/>
                <a:tab algn="l" pos="276228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ximidade de fos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809720"/>
                <a:tab algn="l" pos="276228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ntes Potenciais de Polui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09720"/>
                <a:tab algn="l" pos="276228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dúst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09720"/>
                <a:tab algn="l" pos="276228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ix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09720"/>
                <a:tab algn="l" pos="276228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stos de servi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09720"/>
                <a:tab algn="l" pos="276228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5064120"/>
            <a:ext cx="38862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s 727 áreas contaminadas na RMSP divulgadas pela CETESB (outubro de 2003), a  grande maioria são postos de servi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1124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sequências do uso descontro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76320"/>
            <a:ext cx="7086600" cy="65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7720"/>
                <a:tab algn="l" pos="104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lu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77720"/>
                <a:tab algn="l" pos="104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E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77720"/>
                <a:tab algn="l" pos="104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976: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ei específ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77720"/>
                <a:tab algn="l" pos="104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980: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uperfu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77720"/>
                <a:tab algn="l" pos="104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U$ 1,6 bilhões, em 5 anos, para identificação e remedi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77720"/>
                <a:tab algn="l" pos="104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986: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U$ 8,5 bilhões, em 5 anos, para descontaminação de áreas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 perigo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77720"/>
                <a:tab algn="l" pos="104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U$ 500 milhões para problemas de vazamentos de tan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77720"/>
                <a:tab algn="l" pos="104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1.200 áreas prioritá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77720"/>
                <a:tab algn="l" pos="104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ÃO PA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77720"/>
                <a:tab algn="l" pos="104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003: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727 áreas contamin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77720"/>
                <a:tab algn="l" pos="104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[ 479 (65%) na região metropolitana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77720"/>
                <a:tab algn="l" pos="104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Distribuição por atividade - Outubro de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77720"/>
                <a:tab algn="l" pos="104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77720"/>
                <a:tab algn="l" pos="104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77720"/>
                <a:tab algn="l" pos="104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77720"/>
                <a:tab algn="l" pos="104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77720"/>
                <a:tab algn="l" pos="104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77720"/>
                <a:tab algn="l" pos="104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Projeto de lei específica na Assembléia Legisla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477720"/>
                <a:tab algn="l" pos="104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(Incluir Fundo financei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2" descr=""/>
          <p:cNvPicPr/>
          <p:nvPr/>
        </p:nvPicPr>
        <p:blipFill>
          <a:blip r:embed="rId1"/>
          <a:stretch/>
        </p:blipFill>
        <p:spPr>
          <a:xfrm>
            <a:off x="2209680" y="4648320"/>
            <a:ext cx="3276720" cy="1322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495680" y="59562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CETE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__Mara_I_19" descr=""/>
          <p:cNvPicPr/>
          <p:nvPr/>
        </p:nvPicPr>
        <p:blipFill>
          <a:blip r:embed="rId1"/>
          <a:stretch/>
        </p:blipFill>
        <p:spPr>
          <a:xfrm>
            <a:off x="1098720" y="914400"/>
            <a:ext cx="693396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__Mara_I_20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1064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143000" y="1143000"/>
            <a:ext cx="7086600" cy="4822200"/>
            <a:chOff x="1143000" y="1143000"/>
            <a:chExt cx="7086600" cy="4822200"/>
          </a:xfrm>
        </p:grpSpPr>
        <p:sp>
          <p:nvSpPr>
            <p:cNvPr id="58" name=""/>
            <p:cNvSpPr/>
            <p:nvPr/>
          </p:nvSpPr>
          <p:spPr>
            <a:xfrm>
              <a:off x="6400800" y="1854000"/>
              <a:ext cx="1752840" cy="20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Etapas na definição de áreas de restrição e controle da captação e uso das águas subterrânea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43000" y="1143000"/>
              <a:ext cx="2113200" cy="4554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3480" y="1197000"/>
              <a:ext cx="1932120" cy="831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41880" y="1211040"/>
              <a:ext cx="110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Etapas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30560" y="1482480"/>
              <a:ext cx="1483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identific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17200" y="1755720"/>
              <a:ext cx="79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de A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03480" y="2104920"/>
              <a:ext cx="1836720" cy="431640"/>
            </a:xfrm>
            <a:prstGeom prst="rect">
              <a:avLst/>
            </a:prstGeom>
            <a:solidFill>
              <a:srgbClr val="80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44680" y="2098440"/>
              <a:ext cx="1434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Identificaçã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31000" y="2303280"/>
              <a:ext cx="1457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áreas potencia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09960" y="2570040"/>
              <a:ext cx="95040" cy="231840"/>
            </a:xfrm>
            <a:custGeom>
              <a:avLst/>
              <a:gdLst/>
              <a:ahLst/>
              <a:rect l="l" t="t" r="r" b="b"/>
              <a:pathLst>
                <a:path w="72" h="195">
                  <a:moveTo>
                    <a:pt x="0" y="169"/>
                  </a:moveTo>
                  <a:lnTo>
                    <a:pt x="45" y="169"/>
                  </a:lnTo>
                  <a:lnTo>
                    <a:pt x="72" y="195"/>
                  </a:lnTo>
                  <a:lnTo>
                    <a:pt x="72" y="72"/>
                  </a:lnTo>
                  <a:lnTo>
                    <a:pt x="0" y="0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27440" y="2770200"/>
              <a:ext cx="338040" cy="137880"/>
            </a:xfrm>
            <a:custGeom>
              <a:avLst/>
              <a:gdLst/>
              <a:ahLst/>
              <a:rect l="l" t="t" r="r" b="b"/>
              <a:pathLst>
                <a:path w="254" h="117">
                  <a:moveTo>
                    <a:pt x="0" y="0"/>
                  </a:moveTo>
                  <a:lnTo>
                    <a:pt x="91" y="45"/>
                  </a:lnTo>
                  <a:lnTo>
                    <a:pt x="182" y="0"/>
                  </a:lnTo>
                  <a:lnTo>
                    <a:pt x="254" y="72"/>
                  </a:lnTo>
                  <a:lnTo>
                    <a:pt x="163" y="117"/>
                  </a:lnTo>
                  <a:lnTo>
                    <a:pt x="7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48040" y="2824200"/>
              <a:ext cx="96840" cy="83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27440" y="2570040"/>
              <a:ext cx="242640" cy="254160"/>
            </a:xfrm>
            <a:custGeom>
              <a:avLst/>
              <a:gdLst/>
              <a:ahLst/>
              <a:rect l="l" t="t" r="r" b="b"/>
              <a:pathLst>
                <a:path w="182" h="214">
                  <a:moveTo>
                    <a:pt x="137" y="0"/>
                  </a:moveTo>
                  <a:lnTo>
                    <a:pt x="137" y="169"/>
                  </a:lnTo>
                  <a:lnTo>
                    <a:pt x="182" y="169"/>
                  </a:lnTo>
                  <a:lnTo>
                    <a:pt x="91" y="214"/>
                  </a:lnTo>
                  <a:lnTo>
                    <a:pt x="0" y="169"/>
                  </a:lnTo>
                  <a:lnTo>
                    <a:pt x="46" y="169"/>
                  </a:lnTo>
                  <a:lnTo>
                    <a:pt x="46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30480" y="2936880"/>
              <a:ext cx="1809720" cy="428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55720" y="2930400"/>
              <a:ext cx="1146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Investig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94160" y="3135240"/>
              <a:ext cx="94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relimin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30480" y="3795480"/>
              <a:ext cx="1784160" cy="43020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82560" y="3787560"/>
              <a:ext cx="1146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Investig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39360" y="3992400"/>
              <a:ext cx="123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confirmató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65680" y="1143000"/>
              <a:ext cx="1629000" cy="3617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58080" y="2054160"/>
              <a:ext cx="814320" cy="6969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94160" y="2244600"/>
              <a:ext cx="538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58080" y="2869920"/>
              <a:ext cx="814320" cy="831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10720" y="3128760"/>
              <a:ext cx="50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P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58080" y="3822480"/>
              <a:ext cx="814320" cy="80352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09280" y="4065480"/>
              <a:ext cx="50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R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75120" y="2320920"/>
              <a:ext cx="1903320" cy="14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67280" y="2278080"/>
              <a:ext cx="98640" cy="889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0" y="0"/>
                  </a:moveTo>
                  <a:lnTo>
                    <a:pt x="74" y="37"/>
                  </a:lnTo>
                  <a:lnTo>
                    <a:pt x="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25560" y="2131920"/>
              <a:ext cx="1289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Arial"/>
                </a:rPr>
                <a:t>Classificação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56200" y="1977840"/>
              <a:ext cx="479160" cy="287280"/>
            </a:xfrm>
            <a:custGeom>
              <a:avLst/>
              <a:gdLst/>
              <a:ahLst/>
              <a:rect l="l" t="t" r="r" b="b"/>
              <a:pathLst>
                <a:path w="360" h="243">
                  <a:moveTo>
                    <a:pt x="0" y="243"/>
                  </a:moveTo>
                  <a:lnTo>
                    <a:pt x="48" y="240"/>
                  </a:lnTo>
                  <a:lnTo>
                    <a:pt x="94" y="234"/>
                  </a:lnTo>
                  <a:lnTo>
                    <a:pt x="141" y="221"/>
                  </a:lnTo>
                  <a:lnTo>
                    <a:pt x="184" y="205"/>
                  </a:lnTo>
                  <a:lnTo>
                    <a:pt x="224" y="186"/>
                  </a:lnTo>
                  <a:lnTo>
                    <a:pt x="259" y="160"/>
                  </a:lnTo>
                  <a:lnTo>
                    <a:pt x="291" y="133"/>
                  </a:lnTo>
                  <a:lnTo>
                    <a:pt x="317" y="102"/>
                  </a:lnTo>
                  <a:lnTo>
                    <a:pt x="338" y="70"/>
                  </a:lnTo>
                  <a:lnTo>
                    <a:pt x="352" y="35"/>
                  </a:lnTo>
                  <a:lnTo>
                    <a:pt x="360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86400" y="1944720"/>
              <a:ext cx="98280" cy="475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0" y="34"/>
                  </a:moveTo>
                  <a:lnTo>
                    <a:pt x="40" y="0"/>
                  </a:lnTo>
                  <a:lnTo>
                    <a:pt x="74" y="4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69680" y="1726920"/>
              <a:ext cx="78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Arial"/>
                </a:rPr>
                <a:t>Exclus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33920" y="2482560"/>
              <a:ext cx="2232000" cy="393840"/>
            </a:xfrm>
            <a:custGeom>
              <a:avLst/>
              <a:gdLst/>
              <a:ahLst/>
              <a:rect l="l" t="t" r="r" b="b"/>
              <a:pathLst>
                <a:path w="1677" h="334">
                  <a:moveTo>
                    <a:pt x="1677" y="0"/>
                  </a:moveTo>
                  <a:lnTo>
                    <a:pt x="658" y="0"/>
                  </a:lnTo>
                  <a:lnTo>
                    <a:pt x="658" y="150"/>
                  </a:lnTo>
                  <a:lnTo>
                    <a:pt x="0" y="150"/>
                  </a:lnTo>
                  <a:lnTo>
                    <a:pt x="0" y="334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83160" y="2867040"/>
              <a:ext cx="99720" cy="44280"/>
            </a:xfrm>
            <a:custGeom>
              <a:avLst/>
              <a:gdLst/>
              <a:ahLst/>
              <a:rect l="l" t="t" r="r" b="b"/>
              <a:pathLst>
                <a:path w="75" h="37">
                  <a:moveTo>
                    <a:pt x="75" y="0"/>
                  </a:moveTo>
                  <a:lnTo>
                    <a:pt x="38" y="37"/>
                  </a:lnTo>
                  <a:lnTo>
                    <a:pt x="0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69560" y="2504880"/>
              <a:ext cx="1113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Priorização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75120" y="3179520"/>
              <a:ext cx="1903320" cy="1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67280" y="3135240"/>
              <a:ext cx="98640" cy="8712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0" y="0"/>
                  </a:moveTo>
                  <a:lnTo>
                    <a:pt x="74" y="37"/>
                  </a:lnTo>
                  <a:lnTo>
                    <a:pt x="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342800"/>
              <a:ext cx="1395720" cy="335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38920" y="1357200"/>
              <a:ext cx="94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CLA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81560" y="2620800"/>
              <a:ext cx="1552680" cy="290520"/>
            </a:xfrm>
            <a:custGeom>
              <a:avLst/>
              <a:gdLst/>
              <a:ahLst/>
              <a:rect l="l" t="t" r="r" b="b"/>
              <a:pathLst>
                <a:path w="1166" h="245">
                  <a:moveTo>
                    <a:pt x="0" y="245"/>
                  </a:moveTo>
                  <a:lnTo>
                    <a:pt x="86" y="242"/>
                  </a:lnTo>
                  <a:lnTo>
                    <a:pt x="171" y="238"/>
                  </a:lnTo>
                  <a:lnTo>
                    <a:pt x="255" y="232"/>
                  </a:lnTo>
                  <a:lnTo>
                    <a:pt x="339" y="226"/>
                  </a:lnTo>
                  <a:lnTo>
                    <a:pt x="419" y="218"/>
                  </a:lnTo>
                  <a:lnTo>
                    <a:pt x="499" y="208"/>
                  </a:lnTo>
                  <a:lnTo>
                    <a:pt x="574" y="197"/>
                  </a:lnTo>
                  <a:lnTo>
                    <a:pt x="647" y="186"/>
                  </a:lnTo>
                  <a:lnTo>
                    <a:pt x="718" y="171"/>
                  </a:lnTo>
                  <a:lnTo>
                    <a:pt x="783" y="158"/>
                  </a:lnTo>
                  <a:lnTo>
                    <a:pt x="846" y="142"/>
                  </a:lnTo>
                  <a:lnTo>
                    <a:pt x="903" y="128"/>
                  </a:lnTo>
                  <a:lnTo>
                    <a:pt x="958" y="110"/>
                  </a:lnTo>
                  <a:lnTo>
                    <a:pt x="1006" y="93"/>
                  </a:lnTo>
                  <a:lnTo>
                    <a:pt x="1049" y="75"/>
                  </a:lnTo>
                  <a:lnTo>
                    <a:pt x="1086" y="58"/>
                  </a:lnTo>
                  <a:lnTo>
                    <a:pt x="1118" y="38"/>
                  </a:lnTo>
                  <a:lnTo>
                    <a:pt x="1145" y="19"/>
                  </a:lnTo>
                  <a:lnTo>
                    <a:pt x="1166" y="0"/>
                  </a:ln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81680" y="2549520"/>
              <a:ext cx="92160" cy="9828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0" y="55"/>
                  </a:moveTo>
                  <a:lnTo>
                    <a:pt x="63" y="0"/>
                  </a:lnTo>
                  <a:lnTo>
                    <a:pt x="69" y="83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ff00"/>
            </a:solidFill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3840" y="4680000"/>
              <a:ext cx="1809720" cy="887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23960" y="4716360"/>
              <a:ext cx="1087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OÇÃ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02000" y="4921200"/>
              <a:ext cx="111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DIDAS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49080" y="5124240"/>
              <a:ext cx="121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TRIÇÃO 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66800" y="5329080"/>
              <a:ext cx="997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36960" y="3421080"/>
              <a:ext cx="96840" cy="231480"/>
            </a:xfrm>
            <a:custGeom>
              <a:avLst/>
              <a:gdLst/>
              <a:ahLst/>
              <a:rect l="l" t="t" r="r" b="b"/>
              <a:pathLst>
                <a:path w="72" h="195">
                  <a:moveTo>
                    <a:pt x="0" y="169"/>
                  </a:moveTo>
                  <a:lnTo>
                    <a:pt x="46" y="169"/>
                  </a:lnTo>
                  <a:lnTo>
                    <a:pt x="72" y="195"/>
                  </a:lnTo>
                  <a:lnTo>
                    <a:pt x="72" y="72"/>
                  </a:lnTo>
                  <a:lnTo>
                    <a:pt x="0" y="0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55880" y="3620880"/>
              <a:ext cx="338040" cy="138240"/>
            </a:xfrm>
            <a:custGeom>
              <a:avLst/>
              <a:gdLst/>
              <a:ahLst/>
              <a:rect l="l" t="t" r="r" b="b"/>
              <a:pathLst>
                <a:path w="254" h="117">
                  <a:moveTo>
                    <a:pt x="0" y="0"/>
                  </a:moveTo>
                  <a:lnTo>
                    <a:pt x="91" y="45"/>
                  </a:lnTo>
                  <a:lnTo>
                    <a:pt x="182" y="0"/>
                  </a:lnTo>
                  <a:lnTo>
                    <a:pt x="254" y="72"/>
                  </a:lnTo>
                  <a:lnTo>
                    <a:pt x="163" y="117"/>
                  </a:lnTo>
                  <a:lnTo>
                    <a:pt x="7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78280" y="3674880"/>
              <a:ext cx="95040" cy="8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55880" y="3421080"/>
              <a:ext cx="243000" cy="253800"/>
            </a:xfrm>
            <a:custGeom>
              <a:avLst/>
              <a:gdLst/>
              <a:ahLst/>
              <a:rect l="l" t="t" r="r" b="b"/>
              <a:pathLst>
                <a:path w="182" h="214">
                  <a:moveTo>
                    <a:pt x="136" y="0"/>
                  </a:moveTo>
                  <a:lnTo>
                    <a:pt x="136" y="169"/>
                  </a:lnTo>
                  <a:lnTo>
                    <a:pt x="182" y="169"/>
                  </a:lnTo>
                  <a:lnTo>
                    <a:pt x="91" y="214"/>
                  </a:lnTo>
                  <a:lnTo>
                    <a:pt x="0" y="169"/>
                  </a:lnTo>
                  <a:lnTo>
                    <a:pt x="45" y="169"/>
                  </a:lnTo>
                  <a:lnTo>
                    <a:pt x="45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01880" y="3365280"/>
              <a:ext cx="2264040" cy="341280"/>
            </a:xfrm>
            <a:custGeom>
              <a:avLst/>
              <a:gdLst/>
              <a:ahLst/>
              <a:rect l="l" t="t" r="r" b="b"/>
              <a:pathLst>
                <a:path w="1701" h="288">
                  <a:moveTo>
                    <a:pt x="1701" y="0"/>
                  </a:moveTo>
                  <a:lnTo>
                    <a:pt x="667" y="0"/>
                  </a:lnTo>
                  <a:lnTo>
                    <a:pt x="667" y="132"/>
                  </a:lnTo>
                  <a:lnTo>
                    <a:pt x="0" y="132"/>
                  </a:lnTo>
                  <a:lnTo>
                    <a:pt x="0" y="288"/>
                  </a:lnTo>
                </a:path>
              </a:pathLst>
            </a:custGeom>
            <a:noFill/>
            <a:ln w="2844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52920" y="3697200"/>
              <a:ext cx="101520" cy="46080"/>
            </a:xfrm>
            <a:custGeom>
              <a:avLst/>
              <a:gdLst/>
              <a:ahLst/>
              <a:rect l="l" t="t" r="r" b="b"/>
              <a:pathLst>
                <a:path w="76" h="39">
                  <a:moveTo>
                    <a:pt x="76" y="0"/>
                  </a:moveTo>
                  <a:lnTo>
                    <a:pt x="37" y="39"/>
                  </a:lnTo>
                  <a:lnTo>
                    <a:pt x="0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8000"/>
            </a:solidFill>
            <a:ln w="2844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96800" y="2747880"/>
              <a:ext cx="78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Arial"/>
                </a:rPr>
                <a:t>Exclus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20880" y="3014640"/>
              <a:ext cx="1289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Classificação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69560" y="3470040"/>
              <a:ext cx="1113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8000"/>
                  </a:solidFill>
                  <a:latin typeface="Arial"/>
                </a:rPr>
                <a:t>Priorização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75120" y="4090680"/>
              <a:ext cx="1903320" cy="1800"/>
            </a:xfrm>
            <a:prstGeom prst="line">
              <a:avLst/>
            </a:prstGeom>
            <a:ln w="28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67280" y="4044960"/>
              <a:ext cx="98640" cy="889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0" y="0"/>
                  </a:moveTo>
                  <a:lnTo>
                    <a:pt x="74" y="38"/>
                  </a:lnTo>
                  <a:lnTo>
                    <a:pt x="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00"/>
            </a:solidFill>
            <a:ln w="2844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20880" y="3925800"/>
              <a:ext cx="1289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8000"/>
                  </a:solidFill>
                  <a:latin typeface="Arial"/>
                </a:rPr>
                <a:t>Classificação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07040" y="3692520"/>
              <a:ext cx="1471320" cy="201600"/>
            </a:xfrm>
            <a:custGeom>
              <a:avLst/>
              <a:gdLst/>
              <a:ahLst/>
              <a:rect l="l" t="t" r="r" b="b"/>
              <a:pathLst>
                <a:path w="1105" h="171">
                  <a:moveTo>
                    <a:pt x="0" y="168"/>
                  </a:moveTo>
                  <a:lnTo>
                    <a:pt x="84" y="169"/>
                  </a:lnTo>
                  <a:lnTo>
                    <a:pt x="169" y="171"/>
                  </a:lnTo>
                  <a:lnTo>
                    <a:pt x="252" y="171"/>
                  </a:lnTo>
                  <a:lnTo>
                    <a:pt x="335" y="169"/>
                  </a:lnTo>
                  <a:lnTo>
                    <a:pt x="415" y="166"/>
                  </a:lnTo>
                  <a:lnTo>
                    <a:pt x="494" y="160"/>
                  </a:lnTo>
                  <a:lnTo>
                    <a:pt x="569" y="153"/>
                  </a:lnTo>
                  <a:lnTo>
                    <a:pt x="639" y="147"/>
                  </a:lnTo>
                  <a:lnTo>
                    <a:pt x="708" y="137"/>
                  </a:lnTo>
                  <a:lnTo>
                    <a:pt x="772" y="126"/>
                  </a:lnTo>
                  <a:lnTo>
                    <a:pt x="833" y="113"/>
                  </a:lnTo>
                  <a:lnTo>
                    <a:pt x="887" y="100"/>
                  </a:lnTo>
                  <a:lnTo>
                    <a:pt x="939" y="86"/>
                  </a:lnTo>
                  <a:lnTo>
                    <a:pt x="983" y="72"/>
                  </a:lnTo>
                  <a:lnTo>
                    <a:pt x="1023" y="54"/>
                  </a:lnTo>
                  <a:lnTo>
                    <a:pt x="1057" y="36"/>
                  </a:lnTo>
                  <a:lnTo>
                    <a:pt x="1084" y="19"/>
                  </a:lnTo>
                  <a:lnTo>
                    <a:pt x="1105" y="0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29400" y="3620880"/>
              <a:ext cx="88920" cy="100080"/>
            </a:xfrm>
            <a:custGeom>
              <a:avLst/>
              <a:gdLst/>
              <a:ahLst/>
              <a:rect l="l" t="t" r="r" b="b"/>
              <a:pathLst>
                <a:path w="67" h="84">
                  <a:moveTo>
                    <a:pt x="0" y="53"/>
                  </a:moveTo>
                  <a:lnTo>
                    <a:pt x="64" y="0"/>
                  </a:lnTo>
                  <a:lnTo>
                    <a:pt x="67" y="84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26680" y="3657600"/>
              <a:ext cx="78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Exclus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52720" y="4251240"/>
              <a:ext cx="2113200" cy="295200"/>
            </a:xfrm>
            <a:custGeom>
              <a:avLst/>
              <a:gdLst/>
              <a:ahLst/>
              <a:rect l="l" t="t" r="r" b="b"/>
              <a:pathLst>
                <a:path w="1587" h="250">
                  <a:moveTo>
                    <a:pt x="1587" y="0"/>
                  </a:moveTo>
                  <a:lnTo>
                    <a:pt x="622" y="0"/>
                  </a:lnTo>
                  <a:lnTo>
                    <a:pt x="622" y="131"/>
                  </a:lnTo>
                  <a:lnTo>
                    <a:pt x="0" y="131"/>
                  </a:lnTo>
                  <a:lnTo>
                    <a:pt x="0" y="250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94040" y="4519440"/>
              <a:ext cx="119160" cy="10656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90"/>
                  </a:moveTo>
                  <a:lnTo>
                    <a:pt x="0" y="0"/>
                  </a:lnTo>
                  <a:lnTo>
                    <a:pt x="6" y="4"/>
                  </a:lnTo>
                  <a:lnTo>
                    <a:pt x="13" y="5"/>
                  </a:lnTo>
                  <a:lnTo>
                    <a:pt x="19" y="7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0"/>
                  </a:lnTo>
                  <a:lnTo>
                    <a:pt x="45" y="12"/>
                  </a:lnTo>
                  <a:lnTo>
                    <a:pt x="51" y="10"/>
                  </a:lnTo>
                  <a:lnTo>
                    <a:pt x="59" y="10"/>
                  </a:lnTo>
                  <a:lnTo>
                    <a:pt x="66" y="8"/>
                  </a:lnTo>
                  <a:lnTo>
                    <a:pt x="72" y="7"/>
                  </a:lnTo>
                  <a:lnTo>
                    <a:pt x="78" y="5"/>
                  </a:lnTo>
                  <a:lnTo>
                    <a:pt x="85" y="4"/>
                  </a:lnTo>
                  <a:lnTo>
                    <a:pt x="90" y="0"/>
                  </a:lnTo>
                  <a:lnTo>
                    <a:pt x="45" y="90"/>
                  </a:lnTo>
                  <a:close/>
                </a:path>
              </a:pathLst>
            </a:custGeom>
            <a:solidFill>
              <a:srgbClr val="ff0000"/>
            </a:solidFill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69560" y="4448160"/>
              <a:ext cx="1113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riorização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30560" y="4305240"/>
              <a:ext cx="96840" cy="231840"/>
            </a:xfrm>
            <a:custGeom>
              <a:avLst/>
              <a:gdLst/>
              <a:ahLst/>
              <a:rect l="l" t="t" r="r" b="b"/>
              <a:pathLst>
                <a:path w="72" h="197">
                  <a:moveTo>
                    <a:pt x="0" y="170"/>
                  </a:moveTo>
                  <a:lnTo>
                    <a:pt x="45" y="170"/>
                  </a:lnTo>
                  <a:lnTo>
                    <a:pt x="72" y="197"/>
                  </a:lnTo>
                  <a:lnTo>
                    <a:pt x="72" y="72"/>
                  </a:lnTo>
                  <a:lnTo>
                    <a:pt x="0" y="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48040" y="4505040"/>
              <a:ext cx="338040" cy="139680"/>
            </a:xfrm>
            <a:custGeom>
              <a:avLst/>
              <a:gdLst/>
              <a:ahLst/>
              <a:rect l="l" t="t" r="r" b="b"/>
              <a:pathLst>
                <a:path w="254" h="118">
                  <a:moveTo>
                    <a:pt x="0" y="0"/>
                  </a:moveTo>
                  <a:lnTo>
                    <a:pt x="91" y="46"/>
                  </a:lnTo>
                  <a:lnTo>
                    <a:pt x="182" y="0"/>
                  </a:lnTo>
                  <a:lnTo>
                    <a:pt x="254" y="72"/>
                  </a:lnTo>
                  <a:lnTo>
                    <a:pt x="163" y="118"/>
                  </a:lnTo>
                  <a:lnTo>
                    <a:pt x="7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70080" y="4559040"/>
              <a:ext cx="9540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48040" y="4305240"/>
              <a:ext cx="243000" cy="253800"/>
            </a:xfrm>
            <a:custGeom>
              <a:avLst/>
              <a:gdLst/>
              <a:ahLst/>
              <a:rect l="l" t="t" r="r" b="b"/>
              <a:pathLst>
                <a:path w="182" h="216">
                  <a:moveTo>
                    <a:pt x="137" y="0"/>
                  </a:moveTo>
                  <a:lnTo>
                    <a:pt x="137" y="170"/>
                  </a:lnTo>
                  <a:lnTo>
                    <a:pt x="182" y="170"/>
                  </a:lnTo>
                  <a:lnTo>
                    <a:pt x="91" y="216"/>
                  </a:lnTo>
                  <a:lnTo>
                    <a:pt x="0" y="170"/>
                  </a:lnTo>
                  <a:lnTo>
                    <a:pt x="46" y="170"/>
                  </a:lnTo>
                  <a:lnTo>
                    <a:pt x="46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53040" y="4794120"/>
              <a:ext cx="4876560" cy="11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O-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áreas Potenciais de Restrição e Contr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R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- áreas Prováveis de Restrição e Contr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R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- áreas de Restrição e Contr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52520" y="855720"/>
            <a:ext cx="3219480" cy="698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41360" y="871560"/>
            <a:ext cx="304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apa de identif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67080" y="1155600"/>
            <a:ext cx="82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 A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52520" y="1693800"/>
            <a:ext cx="3219480" cy="279360"/>
          </a:xfrm>
          <a:prstGeom prst="rect">
            <a:avLst/>
          </a:prstGeom>
          <a:solidFill>
            <a:srgbClr val="80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1720" y="1709640"/>
            <a:ext cx="27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entificação de áreas potenci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70480" y="1693800"/>
            <a:ext cx="790560" cy="279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73440" y="166860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833480"/>
            <a:ext cx="1523880" cy="180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86520" y="1785960"/>
            <a:ext cx="95040" cy="93600"/>
          </a:xfrm>
          <a:custGeom>
            <a:avLst/>
            <a:gdLst/>
            <a:ahLst/>
            <a:rect l="l" t="t" r="r" b="b"/>
            <a:pathLst>
              <a:path w="60" h="59">
                <a:moveTo>
                  <a:pt x="0" y="0"/>
                </a:moveTo>
                <a:lnTo>
                  <a:pt x="60" y="30"/>
                </a:lnTo>
                <a:lnTo>
                  <a:pt x="0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78880" y="1606680"/>
            <a:ext cx="110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Classificaçã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1450800"/>
            <a:ext cx="438120" cy="298800"/>
          </a:xfrm>
          <a:custGeom>
            <a:avLst/>
            <a:gdLst/>
            <a:ahLst/>
            <a:rect l="l" t="t" r="r" b="b"/>
            <a:pathLst>
              <a:path w="276" h="188">
                <a:moveTo>
                  <a:pt x="0" y="188"/>
                </a:moveTo>
                <a:lnTo>
                  <a:pt x="38" y="187"/>
                </a:lnTo>
                <a:lnTo>
                  <a:pt x="76" y="180"/>
                </a:lnTo>
                <a:lnTo>
                  <a:pt x="111" y="170"/>
                </a:lnTo>
                <a:lnTo>
                  <a:pt x="145" y="158"/>
                </a:lnTo>
                <a:lnTo>
                  <a:pt x="175" y="142"/>
                </a:lnTo>
                <a:lnTo>
                  <a:pt x="202" y="123"/>
                </a:lnTo>
                <a:lnTo>
                  <a:pt x="225" y="102"/>
                </a:lnTo>
                <a:lnTo>
                  <a:pt x="246" y="79"/>
                </a:lnTo>
                <a:lnTo>
                  <a:pt x="260" y="54"/>
                </a:lnTo>
                <a:lnTo>
                  <a:pt x="271" y="28"/>
                </a:lnTo>
                <a:lnTo>
                  <a:pt x="276" y="0"/>
                </a:lnTo>
              </a:path>
            </a:pathLst>
          </a:custGeom>
          <a:noFill/>
          <a:ln w="22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62600" y="1414440"/>
            <a:ext cx="95040" cy="46080"/>
          </a:xfrm>
          <a:custGeom>
            <a:avLst/>
            <a:gdLst/>
            <a:ahLst/>
            <a:rect l="l" t="t" r="r" b="b"/>
            <a:pathLst>
              <a:path w="60" h="29">
                <a:moveTo>
                  <a:pt x="0" y="28"/>
                </a:moveTo>
                <a:lnTo>
                  <a:pt x="30" y="0"/>
                </a:lnTo>
                <a:lnTo>
                  <a:pt x="60" y="29"/>
                </a:lnTo>
                <a:lnTo>
                  <a:pt x="0" y="28"/>
                </a:lnTo>
                <a:close/>
              </a:path>
            </a:pathLst>
          </a:custGeom>
          <a:solidFill>
            <a:srgbClr val="ff00ff"/>
          </a:solidFill>
          <a:ln w="22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96720" y="1271520"/>
            <a:ext cx="67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Exclu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32440" y="1946160"/>
            <a:ext cx="2138040" cy="270000"/>
          </a:xfrm>
          <a:custGeom>
            <a:avLst/>
            <a:gdLst/>
            <a:ahLst/>
            <a:rect l="l" t="t" r="r" b="b"/>
            <a:pathLst>
              <a:path w="1347" h="170">
                <a:moveTo>
                  <a:pt x="1347" y="0"/>
                </a:moveTo>
                <a:lnTo>
                  <a:pt x="528" y="0"/>
                </a:lnTo>
                <a:lnTo>
                  <a:pt x="528" y="80"/>
                </a:lnTo>
                <a:lnTo>
                  <a:pt x="0" y="80"/>
                </a:lnTo>
                <a:lnTo>
                  <a:pt x="0" y="17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84560" y="2206800"/>
            <a:ext cx="96840" cy="45720"/>
          </a:xfrm>
          <a:custGeom>
            <a:avLst/>
            <a:gdLst/>
            <a:ahLst/>
            <a:rect l="l" t="t" r="r" b="b"/>
            <a:pathLst>
              <a:path w="61" h="29">
                <a:moveTo>
                  <a:pt x="61" y="0"/>
                </a:moveTo>
                <a:lnTo>
                  <a:pt x="30" y="29"/>
                </a:lnTo>
                <a:lnTo>
                  <a:pt x="0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59880" y="2054160"/>
            <a:ext cx="95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riorizaçã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53240" y="995400"/>
            <a:ext cx="1352520" cy="3492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05520" y="1011240"/>
            <a:ext cx="92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67440" y="2309760"/>
            <a:ext cx="2725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ff00"/>
                </a:solidFill>
                <a:latin typeface="Arial"/>
              </a:rPr>
              <a:t>APO-Áreas potenciais de restrição e controle: são aquelas onde a densidade de poços tubulares e o volume de água extraído indicam super-explotação ou aquelas onde estão sendo ou foram desenvolvidas atividades potencialmente poluidoras de solo e águas subterrâ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63600" y="2309760"/>
            <a:ext cx="36133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identificação será feita com base parâmetros: densidade de poços, vazão explotada, escoamento básico e específico, vulnerabilidade natural, qualidade da água, denúncias e cadastro de fontes de polui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vem respeitar os limites de bacias hidrográficas ou de sub-bacias hidrográf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vem ser listadas em ordem de prioridade para ações das etapas segui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362320"/>
            <a:ext cx="3581640" cy="4190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2362320"/>
            <a:ext cx="2819160" cy="419076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18:57:22Z</dcterms:created>
  <dc:creator>Pla_Carlos</dc:creator>
  <dc:description/>
  <dc:language>en-US</dc:language>
  <cp:lastModifiedBy>Pla_Carlos</cp:lastModifiedBy>
  <cp:lastPrinted>2004-05-25T18:50:50Z</cp:lastPrinted>
  <dcterms:modified xsi:type="dcterms:W3CDTF">2004-05-25T18:52:33Z</dcterms:modified>
  <cp:revision>19</cp:revision>
  <dc:subject/>
  <dc:title>Slide sem título </dc:title>
</cp:coreProperties>
</file>